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59EF-0A22-4158-8342-BC8E1920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847F-831D-4209-A673-6A32C653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0B5F-812B-4D12-A2B8-179971D4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2B0B-28D6-4070-AA5B-7FC9409B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F271-A868-482C-8DAD-027097E1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5C06-952E-47FB-A4A0-95E3B21C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2E84-85CA-448F-9E09-5F52EF7A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F0C6-AAF2-46F2-BF1E-BCDD2A85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3FEB-41AE-4433-8B50-9AB12F11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AC50-0808-4B4E-95C7-CAB85F1C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566D-3829-41FC-A3FD-5C5E5A87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4A0C-3DCB-4757-9482-92C5E015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B90CC1-1CE6-487C-B8FF-CC8B6E7837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88000" y="1557360"/>
            <a:ext cx="3744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Жил был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МУРАВЕЙ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И он очень любил работать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671640" cy="35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24360" y="189000"/>
            <a:ext cx="496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А МУРАВЕЙ работал и составлял ежедневные отчеты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504960" cy="3105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77080" y="479736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99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836640"/>
            <a:ext cx="81532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00cc99"/>
                </a:solidFill>
                <a:latin typeface="Courier New"/>
              </a:rPr>
              <a:t>Вскоре понадобилась должность секретаря, который бы помог жуку в чтении и регистрации отчетов МУРАВЬЯ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010280" y="4572000"/>
            <a:ext cx="1676520" cy="1714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3781440" cy="3206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76720" y="293760"/>
            <a:ext cx="5688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Поэтому наняли ПАУЧИХУ, которая классифицировала документы и отвечала на телефонные звонк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1714680" cy="13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304920"/>
            <a:ext cx="5943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Между тем, счастливый МУРАВЕЙ работал, работал, работал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505320" cy="31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297000"/>
            <a:ext cx="6019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ШМЕЛЬ, был очень доволен отчетами НАВОЗНОГО ЖУКА,так что запросил дополнительные отчеты, прогнозы и расчет различных показател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629400" y="914400"/>
            <a:ext cx="1828800" cy="1297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248520" y="3200400"/>
            <a:ext cx="2286000" cy="17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95640" y="0"/>
            <a:ext cx="64087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urier New"/>
              </a:rPr>
              <a:t>В таком случае, необходимо было нанять ТАРАКАНА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urier New"/>
              </a:rPr>
              <a:t>в качестве ассистента НАВОЗНОГО ЖУКА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312408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2400120" cy="4190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04640" y="685800"/>
            <a:ext cx="5639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...а также купить компьютер и цветной принтер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95280" y="174600"/>
            <a:ext cx="532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Вскоре, производительный и счастливый МУРАВЕЙ, начал жаловаться на все разборки и отчеты который должен был предоставлять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и все менее веселей ему становилос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796000" y="692280"/>
            <a:ext cx="3048120" cy="25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189000"/>
            <a:ext cx="5859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ШМЕЛЬ, генеральный директор, понимает, что необходимо принимать меры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791320" y="53352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52280"/>
            <a:ext cx="801684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ccffff"/>
                </a:solidFill>
                <a:latin typeface="Courier New"/>
              </a:rPr>
              <a:t>Так что, на месте где работал продуктивный и еще веселый МУРАВЕЙ был создан департамен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05320" y="781200"/>
            <a:ext cx="53337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Каждый день, с утра по раньше начинал работ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веселый и счастливый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МУРАВЕЙ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59092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5280" y="179280"/>
            <a:ext cx="58626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urier New"/>
              </a:rPr>
              <a:t>На должность начальника был назначен КУЗНЕЧИК. Он соорудил себе современный кабинет и оборудовал соответственн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56360" y="1484280"/>
            <a:ext cx="284472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360" y="380880"/>
            <a:ext cx="8397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b2b2b2"/>
                </a:solidFill>
                <a:latin typeface="Courier New"/>
              </a:rPr>
              <a:t>Новому начальнику департамента понадобился ассистент, который помог бы ему в подготовке стратегических планов и бюджета департамента в котором работал продуктивный и веселый МУРАВЕ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28600"/>
            <a:ext cx="838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Но МУРАВЕЙ уже не пел как раньше и становился все более раздражительным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867280" y="3141720"/>
            <a:ext cx="3048120" cy="25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6400800" y="6094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609480"/>
            <a:ext cx="6569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urier New"/>
              </a:rPr>
              <a:t>Однажды, генеральный директор, посмотрев на цифры, понял, что департамент где работает МУРАВЕЙ, не является уже таким же рентабельным как раньш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371600" cy="129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0"/>
            <a:ext cx="57308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Подумав, ШМЕЛЬ решил нанять в качестве консультанта СОВУ, для  проведения диагностики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498600"/>
            <a:ext cx="84582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ffffcc"/>
                </a:solidFill>
                <a:latin typeface="Courier New"/>
              </a:rPr>
              <a:t>СОВА просидела 3 месяца на фирме, и, после изучения дела, сделала заключение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ffffcc"/>
                </a:solidFill>
                <a:latin typeface="Courier New"/>
              </a:rPr>
              <a:t>“</a:t>
            </a:r>
            <a:r>
              <a:rPr b="1" lang="en-GB" sz="5000" spc="-1" strike="noStrike">
                <a:solidFill>
                  <a:srgbClr val="ffffcc"/>
                </a:solidFill>
                <a:latin typeface="Courier New"/>
              </a:rPr>
              <a:t>В департаменте слишком много персонала.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3640" y="457200"/>
            <a:ext cx="8169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ccff99"/>
                </a:solidFill>
                <a:latin typeface="Courier New"/>
              </a:rPr>
              <a:t>…</a:t>
            </a:r>
            <a:r>
              <a:rPr b="1" lang="en-GB" sz="5000" spc="-1" strike="noStrike">
                <a:solidFill>
                  <a:srgbClr val="ccff99"/>
                </a:solidFill>
                <a:latin typeface="Courier New"/>
              </a:rPr>
              <a:t>следуя совету специалиста, провели сокращение численности. МУРАВЕЙ оказался первым в списке, т.к. все время был недоволен..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360" y="152280"/>
            <a:ext cx="8397720" cy="646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GB" sz="2600" spc="-1" strike="noStrike">
                <a:solidFill>
                  <a:srgbClr val="ff3300"/>
                </a:solidFill>
                <a:latin typeface="Courier New"/>
              </a:rPr>
              <a:t>Мораль: </a:t>
            </a:r>
            <a:r>
              <a:rPr b="0" lang="en-GB" sz="2600" spc="-1" strike="noStrike">
                <a:solidFill>
                  <a:srgbClr val="ff3300"/>
                </a:solidFill>
                <a:latin typeface="Courier New"/>
              </a:rPr>
              <a:t>Даже и не думай быть счастливым и продуктивным муравьем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3300"/>
                </a:solidFill>
                <a:latin typeface="Courier New"/>
              </a:rPr>
              <a:t>Лучше быть некомпетентным и бесполезным. Некомпетентным не нужны надсмотрщики,… все и так понимают почему. И, если, несмотря на твои «усилия», ты все же продолжаешь оставаться продуктивным, не показывай ни за что на свете что ты счастлив и весел. Тебе этого никогда не простят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3300"/>
                </a:solidFill>
                <a:latin typeface="Courier New"/>
              </a:rPr>
              <a:t> </a:t>
            </a:r>
            <a:r>
              <a:rPr b="0" lang="en-GB" sz="2600" spc="-1" strike="noStrike">
                <a:solidFill>
                  <a:srgbClr val="ff3300"/>
                </a:solidFill>
                <a:latin typeface="Courier New"/>
              </a:rPr>
              <a:t>Но если вопреки сказанному выше, ты упрямо продолжаешь оставаться СЧАСТЛИВЫМ И ПРОДУКТИВНЫМ МУРАВЬЕМ, работай на себя, так чтобы не нести на своей спине шмелей, навозных жуков, тараканов, пауков, кузнечиков и с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609480"/>
            <a:ext cx="82454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600" spc="-1" strike="noStrike">
                <a:solidFill>
                  <a:srgbClr val="ff3300"/>
                </a:solidFill>
                <a:latin typeface="Courier New"/>
              </a:rPr>
              <a:t>Была у него хорошая производительность и веселым он был!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59280" y="404280"/>
            <a:ext cx="5486400" cy="60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Пролетал как-то мимо ШМЕЛЬ, посмотрел на веселого и счастливого муравья и решил что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МУРАВЕЙ не может работать сам по себе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и поэтому шмель создал фирму, а себя назначил генеральным директор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1905120"/>
            <a:ext cx="297180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304920"/>
            <a:ext cx="594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А счастливый МУРАВЕЙ продолжал работать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505320" cy="31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981000"/>
            <a:ext cx="830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7200" spc="-1" strike="noStrike">
                <a:solidFill>
                  <a:srgbClr val="ff3300"/>
                </a:solidFill>
                <a:latin typeface="Courier New"/>
              </a:rPr>
              <a:t>И деятельность фирмы была успешной но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867280" y="304920"/>
            <a:ext cx="2743200" cy="2252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260280"/>
            <a:ext cx="5543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Решил генеральный директор фирмы-шмель, что должен кто-то контролировать работу муравья, так была создана должность надсмотрщика и нанят НАВОЗНЫЙ ЖУК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304920"/>
            <a:ext cx="594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А счастливый МУРАВЕЙ продолжал работать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505320" cy="31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67280" y="304920"/>
            <a:ext cx="2743200" cy="2252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333360"/>
            <a:ext cx="541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Самой главной заботой ЖУКА -была задача организовать работу МУРАВЬЯ. И заставил он МУРАВЬЯ делать отчеты о ежедневной проделанной работ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771640" y="4941720"/>
            <a:ext cx="1474920" cy="1695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804000" y="285264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