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154-C7CC-4039-8FE5-0FCF1533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FDF-A156-48D0-99F3-112B5588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924-10A6-4D7A-B41D-D7440AD7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B63-7791-4659-92C6-81A28BEB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1FF-4FB9-462C-B0BE-79B75FDF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416-1771-4C4E-BC3E-0C3CC872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618-6067-4883-86DD-DCE61D00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04E-9779-4A54-8982-5CC377EE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E53-D9C1-425E-B992-54CA9586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075-97A0-4DF6-B41D-8F933C5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C19-343C-4DFC-8162-D91182B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A90-F8D3-4D4C-A756-0735D6C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26BBCD-C786-4818-AEF7-8D2B1AC3D4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1557360"/>
            <a:ext cx="374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Жил бы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МУРАВЕЙ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И он очень любил работа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7164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24360" y="189000"/>
            <a:ext cx="496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МУРАВЕЙ работал и составлял ежедневные отчеты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504960" cy="310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83664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cc99"/>
                </a:solidFill>
                <a:latin typeface="Courier New"/>
              </a:rPr>
              <a:t>Вскоре понадобилась должность секретаря, который бы помог жуку в чтении и регистрации отчетов МУРАВЬЯ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676520" cy="171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781440" cy="3206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293760"/>
            <a:ext cx="568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Поэтому наняли ПАУЧИХУ, которая классифицировала документы и отвечала на телефонные звон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71468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304920"/>
            <a:ext cx="594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Между тем, счастливый МУРАВЕЙ работал, работал, работал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97000"/>
            <a:ext cx="601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ШМЕЛЬ, был очень доволен отчетами НАВОЗНОГО ЖУКА,так что запросил дополнительные отчеты, прогнозы и расчет различных показател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29400" y="914400"/>
            <a:ext cx="182880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248520" y="3200400"/>
            <a:ext cx="2286000" cy="17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5640" y="0"/>
            <a:ext cx="6408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urier New"/>
              </a:rPr>
              <a:t>В таком случае, необходимо было нанять ТАРАКАНА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urier New"/>
              </a:rPr>
              <a:t>в качестве ассистента НАВОЗНОГО ЖУКА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400120" cy="4190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4640" y="685800"/>
            <a:ext cx="563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...а также купить компьютер и цветной принтер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174600"/>
            <a:ext cx="532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Вскоре, производительный и счастливый МУРАВЕЙ, начал жаловаться на все разборки и отчеты который должен был предоставлять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и все менее веселей ему станови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89000"/>
            <a:ext cx="5859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ШМЕЛЬ, генеральный директор, понимает, что необходимо принимать меры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791320" y="5335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52280"/>
            <a:ext cx="80168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ffff"/>
                </a:solidFill>
                <a:latin typeface="Courier New"/>
              </a:rPr>
              <a:t>Так что, на месте где работал продуктивный и еще веселый МУРАВЕЙ был создан департамен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5320" y="781200"/>
            <a:ext cx="5333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Каждый день, с утра по раньше начинал работ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веселый и счастливый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МУРАВЕЙ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5909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79280"/>
            <a:ext cx="58626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urier New"/>
              </a:rPr>
              <a:t>На должность начальника был назначен КУЗНЕЧИК. Он соорудил себе современный кабинет и оборудовал соответственн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284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380880"/>
            <a:ext cx="8397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b2b2b2"/>
                </a:solidFill>
                <a:latin typeface="Courier New"/>
              </a:rPr>
              <a:t>Новому начальнику департамента понадобился ассистент, который помог бы ему в подготовке стратегических планов и бюджета департамента в котором работал продуктивный и веселый МУРАВЕ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Но МУРАВЕЙ уже не пел как раньше и становился все более раздражительным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314172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400800" y="6094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609480"/>
            <a:ext cx="656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urier New"/>
              </a:rPr>
              <a:t>Однажды, генеральный директор, посмотрев на цифры, понял, что департамент где работает МУРАВЕЙ, не является уже таким же рентабельным как раньш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371600" cy="12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0"/>
            <a:ext cx="5730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Подумав, ШМЕЛЬ решил нанять в качестве консультанта СОВУ, для  проведения диагност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98600"/>
            <a:ext cx="8458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СОВА просидела 3 месяца на фирме, и, после изучения дела, сделала заключение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“</a:t>
            </a: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В департаменте слишком много персонала.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457200"/>
            <a:ext cx="8169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ccff99"/>
                </a:solidFill>
                <a:latin typeface="Courier New"/>
              </a:rPr>
              <a:t>…</a:t>
            </a:r>
            <a:r>
              <a:rPr b="1" lang="en-GB" sz="5000" spc="-1" strike="noStrike">
                <a:solidFill>
                  <a:srgbClr val="ccff99"/>
                </a:solidFill>
                <a:latin typeface="Courier New"/>
              </a:rPr>
              <a:t>следуя совету специалиста, провели сокращение численности. МУРАВЕЙ оказался первым в списке, т.к. все время был недоволен..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152280"/>
            <a:ext cx="8397720" cy="646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3300"/>
                </a:solidFill>
                <a:latin typeface="Courier New"/>
              </a:rPr>
              <a:t>Мораль: </a:t>
            </a: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Даже и не думай быть счастливым и продуктивным муравье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Лучше быть некомпетентным и бесполезным. Некомпетентным не нужны надсмотрщики,… все и так понимают почему. И, если, несмотря на твои «усилия», ты все же продолжаешь оставаться продуктивным, не показывай ни за что на свете что ты счастлив и весел. Тебе этого никогда не простя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Но если вопреки сказанному выше, ты упрямо продолжаешь оставаться СЧАСТЛИВЫМ И ПРОДУКТИВНЫМ МУРАВЬЕМ, работай на себя, так чтобы не нести на своей спине шмелей, навозных жуков, тараканов, пауков, кузнечиков и 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480"/>
            <a:ext cx="8245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3300"/>
                </a:solidFill>
                <a:latin typeface="Courier New"/>
              </a:rPr>
              <a:t>Была у него хорошая производительность и веселым он был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48640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Пролетал как-то мимо ШМЕЛЬ, посмотрел на веселого и счастливого муравья и решил что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МУРАВЕЙ не может работать сам по себе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и поэтому шмель создал фирму, а себя назначил генеральным директор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1905120"/>
            <a:ext cx="29718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3049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счастливый МУРАВЕЙ продолжал рабо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9810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ff3300"/>
                </a:solidFill>
                <a:latin typeface="Courier New"/>
              </a:rPr>
              <a:t>И деятельность фирмы была успешной но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43200" cy="225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260280"/>
            <a:ext cx="554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Решил генеральный директор фирмы-шмель, что должен кто-то контролировать работу муравья, так была создана должность надсмотрщика и нанят НАВОЗНЫЙ ЖУК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3049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счастливый МУРАВЕЙ продолжал рабо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43200" cy="225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33360"/>
            <a:ext cx="541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Самой главной заботой ЖУКА -была задача организовать работу МУРАВЬЯ. И заставил он МУРАВЬЯ делать отчеты о ежедневной проделанной рабо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71640" y="4941720"/>
            <a:ext cx="1474920" cy="169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04000" y="28526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