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450-6F82-4F7E-A406-0EEF4C39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918-F0B9-45F3-AB63-87DE4B7B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6FB-B9FD-44A3-84A3-D145B5A7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9E3-9059-42E0-92B2-67240CE7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6F4-CB99-433D-91BE-9AE6A6C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94B-0F2D-427B-A98A-916EC080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F46-9918-4E0D-95C2-9D0ABB9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705-3529-4EAF-AC47-F61067B6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700-BFBD-44F3-A774-94FE6698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6D1-8BC2-4AB4-8CD7-A83AA43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C64-54EA-45F2-B43C-7EB98CBC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9B5-3188-4731-A5D7-832903E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32D143-7C82-4473-A908-35087DD59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1557360"/>
            <a:ext cx="37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Жил бы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И он очень любил работа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7164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4360" y="189000"/>
            <a:ext cx="496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МУРАВЕЙ работал и составлял ежедневные отчеты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04960" cy="310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cc99"/>
                </a:solidFill>
                <a:latin typeface="Courier New"/>
              </a:rPr>
              <a:t>Вскоре понадобилась должность секретаря, который бы помог жуку в чтении и регистрации отчетов МУРАВЬЯ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652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781440" cy="320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93760"/>
            <a:ext cx="568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Поэтому наняли ПАУЧИХУ, которая классифицировала документы и отвечала на телефонные зво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71468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Между тем, счастливый МУРАВЕЙ работал, работал, работа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9700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ШМЕЛЬ, был очень доволен отчетами НАВОЗНОГО ЖУКА,так что запросил дополнительные отчеты, прогнозы и расчет различных показател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914400"/>
            <a:ext cx="182880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320040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0"/>
            <a:ext cx="64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таком случае, необходимо было нанять ТАРАКАНА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качестве ассистента НАВОЗНОГО ЖУКА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400120" cy="41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4640" y="685800"/>
            <a:ext cx="563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...а также купить компьютер и цветной принтер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74600"/>
            <a:ext cx="532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Вскоре, производительный и счастливый МУРАВЕЙ, начал жаловаться на все разборки и отчеты который должен был предоставл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и все менее веселей ему станови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89000"/>
            <a:ext cx="5859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ШМЕЛЬ, генеральный директор, понимает, что необходимо принимать мер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91320" y="533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280"/>
            <a:ext cx="80168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ffff"/>
                </a:solidFill>
                <a:latin typeface="Courier New"/>
              </a:rPr>
              <a:t>Так что, на месте где работал продуктивный и еще веселый МУРАВЕЙ был создан департамен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781200"/>
            <a:ext cx="533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Каждый день, с утра по раньше начинал работ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веселый и счастливы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5909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9280"/>
            <a:ext cx="58626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urier New"/>
              </a:rPr>
              <a:t>На должность начальника был назначен КУЗНЕЧИК. Он соорудил себе современный кабинет и оборудовал соответственн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84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380880"/>
            <a:ext cx="8397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Courier New"/>
              </a:rPr>
              <a:t>Новому начальнику департамента понадобился ассистент, который помог бы ему в подготовке стратегических планов и бюджета департамента в котором работал продуктивный и веселый МУРАВ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Но МУРАВЕЙ уже не пел как раньше и становился все более раздражительным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400800" y="6094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09480"/>
            <a:ext cx="656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urier New"/>
              </a:rPr>
              <a:t>Однажды, генеральный директор, посмотрев на цифры, понял, что департамент где работает МУРАВЕЙ, не является уже таким же рентабельным как раньш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37160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0"/>
            <a:ext cx="5730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Подумав, ШМЕЛЬ решил нанять в качестве консультанта СОВУ, для  проведения диагност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98600"/>
            <a:ext cx="8458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СОВА просидела 3 месяца на фирме, и, после изучения дела, сделала заключение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“</a:t>
            </a: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В департаменте слишком много персонала.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457200"/>
            <a:ext cx="8169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…</a:t>
            </a: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следуя совету специалиста, провели сокращение численности. МУРАВЕЙ оказался первым в списке, т.к. все время был недоволен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52280"/>
            <a:ext cx="8397720" cy="646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3300"/>
                </a:solidFill>
                <a:latin typeface="Courier New"/>
              </a:rPr>
              <a:t>Мораль: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Даже и не думай быть счастливым и продуктивным муравье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Лучше быть некомпетентным и бесполезным. Некомпетентным не нужны надсмотрщики,… все и так понимают почему. И, если, несмотря на твои «усилия», ты все же продолжаешь оставаться продуктивным, не показывай ни за что на свете что ты счастлив и весел. Тебе этого никогда не простя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Но если вопреки сказанному выше, ты упрямо продолжаешь оставаться СЧАСТЛИВЫМ И ПРОДУКТИВНЫМ МУРАВЬЕМ, работай на себя, так чтобы не нести на своей спине шмелей, навозных жуков, тараканов, пауков, кузнечиков и 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480"/>
            <a:ext cx="82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Courier New"/>
              </a:rPr>
              <a:t>Была у него хорошая производительность и веселым он был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486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Пролетал как-то мимо ШМЕЛЬ, посмотрел на веселого и счастливого муравья и решил что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МУРАВЕЙ не может работать сам по себе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и поэтому шмель создал фирму, а себя назначил генеральным директо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19051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3300"/>
                </a:solidFill>
                <a:latin typeface="Courier New"/>
              </a:rPr>
              <a:t>И деятельность фирмы была успешной но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260280"/>
            <a:ext cx="554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Решил генеральный директор фирмы-шмель, что должен кто-то контролировать работу муравья, так была создана должность надсмотрщика и нанят НАВОЗНЫЙ ЖУ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33360"/>
            <a:ext cx="541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Самой главной заботой ЖУКА -была задача организовать работу МУРАВЬЯ. И заставил он МУРАВЬЯ делать отчеты о ежедневной проделанной рабо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1640" y="4941720"/>
            <a:ext cx="1474920" cy="169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