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5B4-434D-4471-9F22-8530B968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ECB-D81A-4D2E-83E5-0547159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766-3B6D-43A2-B4E2-E7F9346E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1DB-AD72-4DB8-9CB6-8F389131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911-0F3B-4645-ADBB-653F9F0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4DF-7F7C-46DD-A921-7F7EEC4A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2EC-255D-4E42-9749-6E76C551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597-C1B1-46E8-98D3-0DD1A25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AAE-5577-48C8-9AA5-30A757A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FE6-7B5B-4408-B61D-F89AAF5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FF9-B194-4704-BC72-C101B74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C19-B38C-4F62-9CE6-05DC141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D4461F-BA8D-40A1-876B-946974A3E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557360"/>
            <a:ext cx="37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Жил бы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И он очень любил работ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7164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4360" y="189000"/>
            <a:ext cx="49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МУРАВЕЙ работал и составлял ежедневные отчеты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0496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cc99"/>
                </a:solidFill>
                <a:latin typeface="Courier New"/>
              </a:rPr>
              <a:t>Вскоре понадобилась должность секретаря, который бы помог жуку в чтении и регистрации отчетов МУРАВЬЯ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781440" cy="320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93760"/>
            <a:ext cx="56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Поэтому наняли ПАУЧИХУ, которая классифицировала документы и отвечала на телефонные зво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7146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Между тем, счастливый МУРАВЕЙ работал, работал, работа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9700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ШМЕЛЬ, был очень доволен отчетами НАВОЗНОГО ЖУКА,так что запросил дополнительные отчеты, прогнозы и расчет различных показа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182880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0"/>
            <a:ext cx="64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таком случае, необходимо было нанять ТАРАКАН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качестве ассистента НАВОЗНОГО ЖУКА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40012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68580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...а также купить компьютер и цветной принтер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74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Вскоре, производительный и счастливый МУРАВЕЙ, начал жаловаться на все разборки и отчеты который должен был предоставл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и все менее веселей ему станови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89000"/>
            <a:ext cx="585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ШМЕЛЬ, генеральный директор, понимает, что необходимо принимать мер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91320" y="533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280"/>
            <a:ext cx="8016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Courier New"/>
              </a:rPr>
              <a:t>Так что, на месте где работал продуктивный и еще веселый МУРАВЕЙ был создан департамен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78120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Каждый день, с утра по раньше начинал работ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веселый и счастливы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9280"/>
            <a:ext cx="5862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urier New"/>
              </a:rPr>
              <a:t>На должность начальника был назначен КУЗНЕЧИК. Он соорудил себе современный кабинет и оборудовал соответствен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84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380880"/>
            <a:ext cx="8397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Courier New"/>
              </a:rPr>
              <a:t>Новому начальнику департамента понадобился ассистент, который помог бы ему в подготовке стратегических планов и бюджета департамента в котором работал продуктивный и веселый МУРАВ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Но МУРАВЕЙ уже не пел как раньше и становился все более раздражительным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656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urier New"/>
              </a:rPr>
              <a:t>Однажды, генеральный директор, посмотрев на цифры, понял, что департамент где работает МУРАВЕЙ, не является уже таким же рентабельным как раньш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0"/>
            <a:ext cx="5730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Подумав, ШМЕЛЬ решил нанять в качестве консультанта СОВУ, для  проведения диагност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986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СОВА просидела 3 месяца на фирме, и, после изучения дела, сделала заключение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“</a:t>
            </a: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В департаменте слишком много персонала.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457200"/>
            <a:ext cx="8169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…</a:t>
            </a: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следуя совету специалиста, провели сокращение численности. МУРАВЕЙ оказался первым в списке, т.к. все время был недоволен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52280"/>
            <a:ext cx="8397720" cy="646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3300"/>
                </a:solidFill>
                <a:latin typeface="Courier New"/>
              </a:rPr>
              <a:t>Мораль: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Даже и не думай быть счастливым и продуктивным муравье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Лучше быть некомпетентным и бесполезным. Некомпетентным не нужны надсмотрщики,… все и так понимают почему. И, если, несмотря на твои «усилия», ты все же продолжаешь оставаться продуктивным, не показывай ни за что на свете что ты счастлив и весел. Тебе этого никогда не простя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Но если вопреки сказанному выше, ты упрямо продолжаешь оставаться СЧАСТЛИВЫМ И ПРОДУКТИВНЫМ МУРАВЬЕМ, работай на себя, так чтобы не нести на своей спине шмелей, навозных жуков, тараканов, пауков, кузнечиков и 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48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Courier New"/>
              </a:rPr>
              <a:t>Была у него хорошая производительность и веселым он был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486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Пролетал как-то мимо ШМЕЛЬ, посмотрел на веселого и счастливого муравья и решил что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МУРАВЕЙ не может работать сам по себе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и поэтому шмель создал фирму, а себя назначил генеральным директо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Courier New"/>
              </a:rPr>
              <a:t>И деятельность фирмы была успешной но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0280"/>
            <a:ext cx="55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Решил генеральный директор фирмы-шмель, что должен кто-то контролировать работу муравья, так была создана должность надсмотрщика и нанят НАВОЗНЫЙ ЖУ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33360"/>
            <a:ext cx="54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Самой главной заботой ЖУКА -была задача организовать работу МУРАВЬЯ. И заставил он МУРАВЬЯ делать отчеты о ежедневной проделанной раб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4941720"/>
            <a:ext cx="147492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