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6CD-B229-46EA-83FE-630DA1A4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52D-B658-4208-8EFC-5C8620F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A3C-733C-4CB7-80CC-DA4DB7BB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6FC-1A99-40FA-8F31-B0965C66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F6C-F12F-4EA5-B41E-8265C247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62D-CF56-4ED3-9DCF-99C26E19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E8E-6DA3-4102-BC8E-144AABA7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001-42DF-4A2E-AB4E-DAF20EAE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42C-4420-4C72-A5F2-B5F30D9C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539-C5C7-45AE-8790-E5866E17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65E-AE01-47BD-B683-63B03982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B6A-C0F0-460E-B40F-36A9CFBA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3408BC-1F86-4BC3-B452-0253FDFEA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1557360"/>
            <a:ext cx="37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Жил бы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И он очень любил работа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7164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4360" y="189000"/>
            <a:ext cx="496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МУРАВЕЙ работал и составлял ежедневные отчеты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04960" cy="3105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83664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cc99"/>
                </a:solidFill>
                <a:latin typeface="Courier New"/>
              </a:rPr>
              <a:t>Вскоре понадобилась должность секретаря, который бы помог жуку в чтении и регистрации отчетов МУРАВЬЯ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010280" y="4572000"/>
            <a:ext cx="1676520" cy="1714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781440" cy="3206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76720" y="293760"/>
            <a:ext cx="568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Поэтому наняли ПАУЧИХУ, которая классифицировала документы и отвечала на телефонные звон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71468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30492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Между тем, счастливый МУРАВЕЙ работал, работал, работал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97000"/>
            <a:ext cx="601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ШМЕЛЬ, был очень доволен отчетами НАВОЗНОГО ЖУКА,так что запросил дополнительные отчеты, прогнозы и расчет различных показател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29400" y="914400"/>
            <a:ext cx="182880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248520" y="3200400"/>
            <a:ext cx="2286000" cy="17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5640" y="0"/>
            <a:ext cx="64087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таком случае, необходимо было нанять ТАРАКАНА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Courier New"/>
              </a:rPr>
              <a:t>в качестве ассистента НАВОЗНОГО ЖУКА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400120" cy="4190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04640" y="685800"/>
            <a:ext cx="563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...а также купить компьютер и цветной принтер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95280" y="174600"/>
            <a:ext cx="532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Вскоре, производительный и счастливый МУРАВЕЙ, начал жаловаться на все разборки и отчеты который должен был предоставлять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и все менее веселей ему становило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89000"/>
            <a:ext cx="5859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ШМЕЛЬ, генеральный директор, понимает, что необходимо принимать меры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791320" y="533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52280"/>
            <a:ext cx="80168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ffff"/>
                </a:solidFill>
                <a:latin typeface="Courier New"/>
              </a:rPr>
              <a:t>Так что, на месте где работал продуктивный и еще веселый МУРАВЕЙ был создан департамен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05320" y="781200"/>
            <a:ext cx="533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Каждый день, с утра по раньше начинал работ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веселый и счастливы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МУРАВЕЙ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5909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95280" y="179280"/>
            <a:ext cx="58626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urier New"/>
              </a:rPr>
              <a:t>На должность начальника был назначен КУЗНЕЧИК. Он соорудил себе современный кабинет и оборудовал соответственн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8447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380880"/>
            <a:ext cx="8397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b2b2b2"/>
                </a:solidFill>
                <a:latin typeface="Courier New"/>
              </a:rPr>
              <a:t>Новому начальнику департамента понадобился ассистент, который помог бы ему в подготовке стратегических планов и бюджета департамента в котором работал продуктивный и веселый МУРАВЕ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urier New"/>
              </a:rPr>
              <a:t>Но МУРАВЕЙ уже не пел как раньше и становился все более раздражительным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67280" y="314172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6400800" y="6094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609480"/>
            <a:ext cx="656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urier New"/>
              </a:rPr>
              <a:t>Однажды, генеральный директор, посмотрев на цифры, понял, что департамент где работает МУРАВЕЙ, не является уже таким же рентабельным как раньш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37160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0"/>
            <a:ext cx="5730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Подумав, ШМЕЛЬ решил нанять в качестве консультанта СОВУ, для  проведения диагност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98600"/>
            <a:ext cx="8458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СОВА просидела 3 месяца на фирме, и, после изучения дела, сделала заключение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“</a:t>
            </a:r>
            <a:r>
              <a:rPr b="1" lang="en-GB" sz="5000" spc="-1" strike="noStrike">
                <a:solidFill>
                  <a:srgbClr val="ffffcc"/>
                </a:solidFill>
                <a:latin typeface="Courier New"/>
              </a:rPr>
              <a:t>В департаменте слишком много персонала.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457200"/>
            <a:ext cx="8169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…</a:t>
            </a:r>
            <a:r>
              <a:rPr b="1" lang="en-GB" sz="5000" spc="-1" strike="noStrike">
                <a:solidFill>
                  <a:srgbClr val="ccff99"/>
                </a:solidFill>
                <a:latin typeface="Courier New"/>
              </a:rPr>
              <a:t>следуя совету специалиста, провели сокращение численности. МУРАВЕЙ оказался первым в списке, т.к. все время был недоволен..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360" y="152280"/>
            <a:ext cx="8397720" cy="646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GB" sz="2600" spc="-1" strike="noStrike">
                <a:solidFill>
                  <a:srgbClr val="ff3300"/>
                </a:solidFill>
                <a:latin typeface="Courier New"/>
              </a:rPr>
              <a:t>Мораль: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Даже и не думай быть счастливым и продуктивным муравье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Лучше быть некомпетентным и бесполезным. Некомпетентным не нужны надсмотрщики,… все и так понимают почему. И, если, несмотря на твои «усилия», ты все же продолжаешь оставаться продуктивным, не показывай ни за что на свете что ты счастлив и весел. Тебе этого никогда не простят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0" lang="en-GB" sz="2600" spc="-1" strike="noStrike">
                <a:solidFill>
                  <a:srgbClr val="ff3300"/>
                </a:solidFill>
                <a:latin typeface="Courier New"/>
              </a:rPr>
              <a:t>Но если вопреки сказанному выше, ты упрямо продолжаешь оставаться СЧАСТЛИВЫМ И ПРОДУКТИВНЫМ МУРАВЬЕМ, работай на себя, так чтобы не нести на своей спине шмелей, навозных жуков, тараканов, пауков, кузнечиков и 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480"/>
            <a:ext cx="824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3300"/>
                </a:solidFill>
                <a:latin typeface="Courier New"/>
              </a:rPr>
              <a:t>Была у него хорошая производительность и веселым он был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59280" y="404280"/>
            <a:ext cx="548640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Пролетал как-то мимо ШМЕЛЬ, посмотрел на веселого и счастливого муравья и решил что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МУРАВЕЙ не может работать сам по себе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и поэтому шмель создал фирму, а себя назначил генеральным директор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1905120"/>
            <a:ext cx="2971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3300"/>
                </a:solidFill>
                <a:latin typeface="Courier New"/>
              </a:rPr>
              <a:t>И деятельность фирмы была успешной но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260280"/>
            <a:ext cx="554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Решил генеральный директор фирмы-шмель, что должен кто-то контролировать работу муравья, так была создана должность надсмотрщика и нанят НАВОЗНЫЙ ЖУ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3049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ourier New"/>
              </a:rPr>
              <a:t>А счастливый МУРАВЕЙ продолжал работать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053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43200" cy="225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33360"/>
            <a:ext cx="541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Самой главной заботой ЖУКА -была задача организовать работу МУРАВЬЯ. И заставил он МУРАВЬЯ делать отчеты о ежедневной проделанной работ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1640" y="4941720"/>
            <a:ext cx="1474920" cy="1695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04000" y="28526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